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F0DA-8FFC-4D16-864B-44A942A97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7EFD-454C-4E68-9987-30F177089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42F5-DF2B-4C27-ABBD-493CEDE70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9FFB-E50F-49DC-A7E1-90C4B25E8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50EF-9244-4FB7-8F4D-EFF4E102C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3C86-2756-4AB3-8B9D-83BCB2B79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D3C0-AEA4-4CCA-B83B-9C2B51D0A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5E81-DB3E-429E-8EF8-3F68865AE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5616-5527-4F07-AA0E-B4C92F51D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87D6-4D31-4430-9358-5D22ED9B3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9E47-9535-4812-B9C6-0478F26F2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397C-77EB-494E-BD33-40AC99E2B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EEED5-C68E-4FC7-8716-13BBFE9676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1660" t="5969" r="11661" b="3398"/>
          <a:stretch/>
        </p:blipFill>
        <p:spPr>
          <a:xfrm>
            <a:off x="-7920" y="47520"/>
            <a:ext cx="9144000" cy="668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2432" t="5956" r="9174" b="3522"/>
          <a:stretch/>
        </p:blipFill>
        <p:spPr>
          <a:xfrm>
            <a:off x="0" y="47520"/>
            <a:ext cx="9144000" cy="655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8T14:17:26Z</dcterms:created>
  <dc:creator>Luis</dc:creator>
  <dc:description/>
  <dc:language>en-US</dc:language>
  <cp:lastModifiedBy>Luis</cp:lastModifiedBy>
  <dcterms:modified xsi:type="dcterms:W3CDTF">2008-04-28T14:22:0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